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8AA33-D654-477D-936D-FAF53851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D59D8-4211-4290-A0D6-904CE802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CF90D-CE4F-4532-8423-0A2DBC39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935A8-1C46-477C-BC39-70E002F1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2B3AC-9570-4E2C-8EB8-F609D4363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483D-4084-4BB0-BA70-E19109ED9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85BE5-BD51-4536-91E9-ECE42DB9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482B4-F832-4625-8BB3-354C87D1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A057B-116A-4B9F-829B-0E263206B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25D46-7174-46C6-A851-A1A150E5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102B-FD2F-4D69-9014-F14E9E61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A911-52A5-4364-AB3E-86FF2CB16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4F99-338D-4FEC-9B21-566AD2448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2:49Z</dcterms:modified>
  <cp:revision>43</cp:revision>
  <dc:subject/>
  <dc:title>SALARIUL</dc:title>
</cp:coreProperties>
</file>